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3C6-AC6A-43AB-9A14-6C09321E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0CC-C9CA-4DA6-9512-5018E469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D3A-350D-4579-868A-DC158B74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8C-7036-4FE8-8100-62089E9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C10-DCF0-4A8E-9076-D93302F3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4C9-6E74-40ED-A26E-FC0C266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623-F1B7-48C8-AC29-B3E250A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11A-4C13-483B-A9FC-5D9FFA4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397-3997-45D1-ADA7-C7AAC3EF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502-8FBE-4808-BC38-83BF920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50D-0978-48B0-BD72-8624435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FF4-2362-470B-97B3-9E1DA4B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2B6A-F828-4877-A998-946117B9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answers these questi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37000" y="2133720"/>
            <a:ext cx="633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m I provoked to make this argume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is this issue important right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is this issue controversi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are others saying on this issu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o is on my side? What are their credenti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o is on the other side? Why are they wro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are they righ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517320" y="5522760"/>
            <a:ext cx="82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y Say/I Say: The Moves That Matter in Academic Wri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d Graff and Kathy Birkenstein. Norton. 2006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45680" y="178920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or deny a comparis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97680" y="2703600"/>
            <a:ext cx="7268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 is like 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936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84200" y="3962520"/>
            <a:ext cx="756288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(s) may say that 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ike _______________________________, but the comparison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because while ______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______________________________, it is not as 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y clai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-337320" y="180648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the importance of this top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90240" y="2475000"/>
            <a:ext cx="64612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 is important because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5560" y="3313080"/>
            <a:ext cx="69184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care about______________because if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5480" y="4761000"/>
            <a:ext cx="7238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tely, what is at stake here is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11040" y="5599080"/>
            <a:ext cx="55785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iscussion of _________________ addresses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matter of 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46040" y="1806480"/>
            <a:ext cx="64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trace the development of your own 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bjec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21000" y="2703600"/>
            <a:ext cx="7206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ve always believed that_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3000" y="3352680"/>
            <a:ext cx="8424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was a child, I used to think that____________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/and now I realize that________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4520" y="4572000"/>
            <a:ext cx="5875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same time that I believe__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lso believe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13920" y="5522760"/>
            <a:ext cx="5115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areful consideration and as a result of m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, I have/have not changed my m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6400" y="180648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words and phrases to establish cause and effect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928440" y="2398680"/>
            <a:ext cx="62204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(of)_____________, 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919080" y="3084480"/>
            <a:ext cx="1666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esult (o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fr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916560" y="4532400"/>
            <a:ext cx="2030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con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10960" y="2932200"/>
            <a:ext cx="162684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…the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, 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8200" y="180648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noun phrases to negatively characterize your opponent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040" y="4191120"/>
            <a:ext cx="69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noun phrases to positively characterize your supporter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222200" y="472428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thinkers                prudent thin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think about             proactive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care about              civic-minded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know about            serious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understand            people with regard f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s                                 rea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202040" y="2246400"/>
            <a:ext cx="722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disregard                               those who take a narrow 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s                                               people who liv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ysayers                                               people who are una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would have us believe           those on the sid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live only for the moment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li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is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 response</a:t>
            </a:r>
            <a:br>
              <a:rPr sz="4000"/>
            </a:b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oppos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362141"/>
          <p:cNvPicPr/>
          <p:nvPr/>
        </p:nvPicPr>
        <p:blipFill>
          <a:blip r:embed="rId1"/>
          <a:stretch/>
        </p:blipFill>
        <p:spPr>
          <a:xfrm>
            <a:off x="380880" y="2743200"/>
            <a:ext cx="3114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embeds all or some of these component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447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37960" y="1523880"/>
            <a:ext cx="7823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ment of the opposing 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 and paraphrases (references to author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cdotes (little stor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bination of objective (academic) and subjective (emotional) langu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torical ques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 and fig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and effect 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perspectives (I, we, you, he, she, the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refers to 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some of the following valu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447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30400" y="1523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360" y="1371600"/>
            <a:ext cx="85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These are overlapping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ic Principles: Personal freedom, expression of individuali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of democracy, the right to be left alone, civil liberti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oring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: Helping others, sharing re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ing future generations; establishing sense of belonging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ing for loved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 for safety and security: Protection against enemies, protection of re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sufficient food and shelter, avoiding and responding to natu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ster, maintaining heal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s: Maintaining sufficient resources for now and the futur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ng personal fortunes while offer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to every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y, Pleasure, Conveni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45680" y="178920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at the outset of your argument to establish what others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n saying on this topic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37320" y="2666880"/>
            <a:ext cx="66852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cent __________, we have been hearing a great deal ab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 by 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29528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07880" y="3809880"/>
            <a:ext cx="62294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 has been in the news rec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278000" y="531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9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8560" y="1523880"/>
            <a:ext cx="73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frames at the outset of your argument to introduce an ongo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at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39000" y="2286000"/>
            <a:ext cx="7236720" cy="311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ussions of _____________, one controversial issue has b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. People who believe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that________________________________. On the other han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believe _____________________________ assert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own view is 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9528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278000" y="531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4840" y="1560600"/>
            <a:ext cx="72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frame to establish common ground on a controversial issue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73640" y="2246400"/>
            <a:ext cx="7790040" cy="311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comes to the topic of ______________________, most of 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agree that ____________________________. Where th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ends, however, is on the question of 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as some are convinced that 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maintain that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own view is that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-639000" y="1806480"/>
            <a:ext cx="78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as you acknowledge that the opposing side has a certa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to validity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82400" y="2666880"/>
            <a:ext cx="7070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at one time it may have been true that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state that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90680" y="3962520"/>
            <a:ext cx="7457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 makes sense when he/she/they say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, but 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60160" y="5181480"/>
            <a:ext cx="823644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the validity of ______________________’s claim about 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they miss the mark when it comes to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-388080" y="1806480"/>
            <a:ext cx="65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working definitions of key term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7920" y="2627280"/>
            <a:ext cx="78861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 of this discussion, I will define 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_______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49720" y="4075200"/>
            <a:ext cx="846684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you might think of ______________________as being j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_________________________, I define it as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5:42:19Z</dcterms:created>
  <dc:creator>Amy Benjamin</dc:creator>
  <dc:description/>
  <dc:language>en-US</dc:language>
  <cp:lastModifiedBy>Amy</cp:lastModifiedBy>
  <dcterms:modified xsi:type="dcterms:W3CDTF">2012-11-18T16:03:33Z</dcterms:modified>
  <cp:revision>3</cp:revision>
  <dc:subject/>
  <dc:title>Sentence Frames for Argumentation</dc:title>
</cp:coreProperties>
</file>